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AC98-8046-4CAA-B0CD-EDBB0609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2E2-EE97-4C54-8D76-8E41E5D8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E1F-BAB8-4D77-83A1-132ACE46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2C4-3981-4548-9947-BCF23EF9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D221-991F-4B7F-AF74-5BD225BF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1CAE-79AF-44B0-9D42-76DD75BD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F6C5-B797-4F9A-A108-EB053A9D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0A70-8532-4918-8B57-C3ADBB5D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7992-F6E7-450F-85B4-B82B3D22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E6F3-5AD7-4B84-847B-86A1EAA7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6310-5632-4E75-91B4-B8343EA5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B3A2-02DF-44D8-AB77-37A567C9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22DF-7059-4008-AE4C-8658EF18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5B9D-C0EA-4637-8A60-F957CD05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EB66-93D6-4641-9E8C-5F99D133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BEB5-C9F4-44C4-8367-C3C5CB1E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2D7A-1DE2-4C00-AF6D-2A4809F1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7B3-F549-426C-8E2B-42D79DD0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1502-7419-445D-B48E-2225FA7B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5E14-DA58-4406-B28E-7B9667FE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2AE7-D515-4CD8-A271-AB6F7CFA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0299-DCE9-430C-9D7C-8E563181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4BCC-28AB-42F6-8F0E-2C3320B3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DA71-4787-42EA-B362-507B25D2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0440" indent="-46044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5440" indent="-38160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69160" indent="-32832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929600" indent="-29340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19480" indent="-276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19480" indent="-2764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19480" indent="-2764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2F2C-74C0-4501-83EC-28818994BC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5F8D-55E1-4563-9446-AE6407A928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37960" algn="ctr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81160" algn="ctr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235080" algn="ctr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235080">
              <a:spcBef>
                <a:spcPts val="4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235080">
              <a:spcBef>
                <a:spcPts val="4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The Nineteenth Century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wing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49528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95440" y="4705200"/>
            <a:ext cx="6581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erica is a land of wonders, in which everything is in constant motion and every change seems an improvement. No natural boundary seems to be set to the efforts of man; and in his eyes what is not yet done is only what he has not yet attempted to do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exis de Tocquevi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0" y="7617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5401"/>
                </a:solidFill>
                <a:latin typeface="Futura"/>
              </a:rPr>
              <a:t>Names and Terms to Know</a:t>
            </a:r>
            <a:endParaRPr b="0" lang="en-US" sz="28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649"/>
              </a:spcBef>
              <a:buClr>
                <a:srgbClr val="cc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Alexis de Tocqueville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enchman sent to report on America’s prisons, but instead took notice of the, “lively faith in the perfectibility of man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cc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Romanticism</a:t>
            </a:r>
            <a:r>
              <a:rPr b="0" lang="en-US" sz="2600" spc="-1" strike="noStrike">
                <a:solidFill>
                  <a:srgbClr val="ff9966"/>
                </a:solidFill>
                <a:latin typeface="Arial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vement in the arts and literature that originated in the late 18th century, emphasizing inspiration, subjectivity and the primacy of the individual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5401"/>
                </a:solidFill>
                <a:latin typeface="Futura"/>
              </a:rPr>
              <a:t>Focus Questions</a:t>
            </a:r>
            <a:endParaRPr b="0" lang="en-US" sz="28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649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5401"/>
                </a:solidFill>
                <a:latin typeface="Arial"/>
              </a:rPr>
              <a:t>In what ways did the growth in the size of the United States during this time period affect the nation’s view of itself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49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5401"/>
                </a:solidFill>
                <a:latin typeface="Arial"/>
              </a:rPr>
              <a:t>As a result of the growing prosperity, what challenges confronted the United States in the mid-nineteenth century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49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5401"/>
                </a:solidFill>
                <a:latin typeface="Arial"/>
              </a:rPr>
              <a:t>In what ways does the literature of this period reflect the country’s expansion?</a:t>
            </a:r>
            <a:r>
              <a:rPr b="0" lang="en-US" sz="2600" spc="-1" strike="noStrike">
                <a:solidFill>
                  <a:srgbClr val="ff0d2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1629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5401"/>
                </a:solidFill>
                <a:latin typeface="Futura"/>
              </a:rPr>
              <a:t>Romantics</a:t>
            </a:r>
            <a:endParaRPr b="0" lang="en-US" sz="2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e early 19th century writers includ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6000" indent="-37368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ington Irv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6000" indent="-37368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mes Fenimore Coo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6000" indent="-37368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iam Cullen Bry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6000" indent="-37368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gar Allen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6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ions of Romantic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6000" indent="-37368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necessarily deal with l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6000" indent="-37368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Romantic writers elevated the imagination over reason and intuition over fa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6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the Civil Wa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6000" indent="-37368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cqueville wrote, “America has produced very few writers of distinction. [The literature of England] still darts its rays into the forests of the New World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6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6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5401"/>
                </a:solidFill>
                <a:latin typeface="Futura"/>
              </a:rPr>
              <a:t>Neoclassicism/</a:t>
            </a:r>
            <a:br>
              <a:rPr sz="2800"/>
            </a:br>
            <a:r>
              <a:rPr b="1" lang="en-US" sz="2800" spc="-1" strike="noStrike">
                <a:solidFill>
                  <a:srgbClr val="2a5401"/>
                </a:solidFill>
                <a:latin typeface="Futura"/>
              </a:rPr>
              <a:t>Enlightenment</a:t>
            </a:r>
            <a:br>
              <a:rPr sz="2800"/>
            </a:br>
            <a:r>
              <a:rPr b="1" lang="en-US" sz="2800" spc="-1" strike="noStrike">
                <a:solidFill>
                  <a:srgbClr val="2a5401"/>
                </a:solidFill>
                <a:latin typeface="Futura"/>
              </a:rPr>
              <a:t>(Revolting against)</a:t>
            </a:r>
            <a:endParaRPr b="0" lang="en-US" sz="28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120" y="274284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550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antic writers rebelled against the neoclassic ideas of the 18th century such 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8556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, form, and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8556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ghtly controlled poetry in the classical m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8556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tra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8556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e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8556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ed on adult concerns (ruling cl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Background-</a:t>
            </a:r>
            <a:br>
              <a:rPr sz="4400"/>
            </a:b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Romanticism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550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 18th century to early 19th centu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550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antic movement influenced the social and political landscape of Europ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550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antics rejected science and rea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550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antics embraced nature, emotion, mythology, and individual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550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wer of Imagination was a major strength of the Romantic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Romantic Ideas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550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otions and imag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550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jective experiences of the individual- desires, hopes, and dr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550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ure- creative and destructiv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550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ntane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550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ri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550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hood, unsophisticated societies, common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550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sion and v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6:38:26Z</dcterms:created>
  <dc:creator>Buffalo Grove High School</dc:creator>
  <dc:description/>
  <dc:language>en-US</dc:language>
  <cp:lastModifiedBy>Buffalo Grove High School</cp:lastModifiedBy>
  <dcterms:modified xsi:type="dcterms:W3CDTF">2007-10-25T12:27:08Z</dcterms:modified>
  <cp:revision>13</cp:revision>
  <dc:subject/>
  <dc:title>The Nineteenth Century</dc:title>
</cp:coreProperties>
</file>